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1D7-1A6A-4F36-93AA-63C4E274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502-4BFB-4020-BED7-EC5FCD0B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1F3-BBEC-4BD7-A6E0-69A347A5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137E-E1E4-495C-9B10-8E726790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F8A8-F76B-40CD-8647-8D30D155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E59-09AA-4EEF-B3BF-FEE0454B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BEF-B5E6-47DA-96EA-4FD6BA11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F84-9E03-4EBE-B07C-F5B69A4C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CF2-F331-40A9-94D1-28D4686F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CDB1-2EA4-444F-8C87-1FCEE273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80F-8829-42DB-BCFA-2F0C53DF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D50B-A44C-4BC7-962C-B2D2F382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8244000" y="0"/>
            <a:ext cx="900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00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00360" y="6453000"/>
            <a:ext cx="37432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hen Brooks / RAL / March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5916-5BAB-44D2-AA63-44B3D07A3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55632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E55F-8D1C-420D-A7D0-095E22688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79640" y="-2908440"/>
            <a:ext cx="504036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0" spc="-1" strike="noStrike">
                <a:solidFill>
                  <a:srgbClr val="f0e0f0"/>
                </a:solidFill>
                <a:latin typeface="Symbol"/>
                <a:ea typeface="Symbol"/>
              </a:rPr>
              <a:t></a:t>
            </a:r>
            <a:endParaRPr b="0" lang="en-US" sz="6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ion Yields from a Tantalum Rod Target using MARS15 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across proton driver energies and other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ome Artifacts?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S15 uses two hadron production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he “Cascade-Exciton Model” CEM2003 for E&lt;5GeV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Inclusive” hadron production for E&gt;3GeV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kolai Mokhov s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364644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mix-and-match algorithm is used between 3 and 5 GeV to provide a continuity between the two domains. The high-energy model is used at 5 GeV and above. Certainly, characteristics of interactions are somewhat different in the two models at the same energ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our results look quite reasonable, although there is still something to improve in the LANL's low-energy model, especially for pion production. The work is in progress on that. A LAQGSM option coming soon, will give you an alternative possibility to study this intermediate energy region in a different somewhat more consistent way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ossible Remedie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ally, we would want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ARP dat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ll in this “gap” between the two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. Walaron at RAL is also working on benchmarking these calculations against a GEANT4-based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ating LAQGSM is another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shall treat the results as ‘roughly correct’ for now, though the kink may not be as sharp as MARS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ummary 1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far, it appears that a 10-30GeV proton be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Produces ~60% more pions per p.GeV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in a more focussed angular distribu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with ~40% less rod heating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 the low-energy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T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useful yield is crucially dependent on the captur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96200" y="4175280"/>
            <a:ext cx="210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 certain provisos on the accuracy of MARS’s pion model over the transition re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turns out geometric angle is a badly-normalised measure of beam di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verse momentum and the magnetic field dictate the Larmor radius in the solenoidal decay chann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55640" y="4340160"/>
                <a:ext cx="223200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780000" y="4789440"/>
                <a:ext cx="46227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eV/c</m:t>
                        </m:r>
                        <m:r>
                          <m:t xml:space="preserve">]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76360" y="3784680"/>
            <a:ext cx="6296040" cy="1949400"/>
          </a:xfrm>
          <a:custGeom>
            <a:avLst/>
            <a:gdLst/>
            <a:ahLst/>
            <a:rect l="l" t="t" r="r" b="b"/>
            <a:pathLst>
              <a:path w="3966" h="1228">
                <a:moveTo>
                  <a:pt x="0" y="1228"/>
                </a:moveTo>
                <a:lnTo>
                  <a:pt x="610" y="0"/>
                </a:lnTo>
                <a:lnTo>
                  <a:pt x="3785" y="0"/>
                </a:lnTo>
                <a:lnTo>
                  <a:pt x="3966" y="476"/>
                </a:lnTo>
                <a:lnTo>
                  <a:pt x="3685" y="670"/>
                </a:lnTo>
                <a:lnTo>
                  <a:pt x="3912" y="1032"/>
                </a:lnTo>
                <a:lnTo>
                  <a:pt x="3705" y="1226"/>
                </a:lnTo>
                <a:lnTo>
                  <a:pt x="0" y="12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ptance of the decay channel in (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-space should look roughly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476360" y="2923920"/>
            <a:ext cx="0" cy="28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573408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69200" y="5724360"/>
            <a:ext cx="537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440" y="2924280"/>
            <a:ext cx="54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3789360"/>
            <a:ext cx="73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476360" y="2852640"/>
            <a:ext cx="1440000" cy="288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70360" y="3357720"/>
            <a:ext cx="34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Larmor radius = ½ aperture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8600" y="5799240"/>
            <a:ext cx="53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gular limit (eliminate backwards/sideways p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443700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ons in this region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09280" y="512604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 baseline="30000">
                <a:solidFill>
                  <a:srgbClr val="ff0000"/>
                </a:solidFill>
                <a:latin typeface="Arial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89720" y="3786120"/>
            <a:ext cx="99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3200" spc="-1" strike="noStrike" baseline="-25000">
                <a:solidFill>
                  <a:srgbClr val="0000cc"/>
                </a:solidFill>
                <a:latin typeface="Arial"/>
              </a:rPr>
              <a:t>T</a:t>
            </a:r>
            <a:r>
              <a:rPr b="0" lang="en-GB" sz="3200" spc="-1" strike="noStrike" baseline="30000">
                <a:solidFill>
                  <a:srgbClr val="0000cc"/>
                </a:solidFill>
                <a:latin typeface="Arial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373800" y="3789360"/>
            <a:ext cx="0" cy="1944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4579560"/>
            <a:ext cx="2304720" cy="229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746" y="1199"/>
                </a:moveTo>
                <a:arcTo wR="10800" hR="10800" stAng="-3764591" swAng="3779986"/>
                <a:lnTo>
                  <a:pt x="10800" y="10800"/>
                </a:lnTo>
                <a:close/>
              </a:path>
              <a:path fill="none" w="21600" h="21600">
                <a:moveTo>
                  <a:pt x="15746" y="1199"/>
                </a:moveTo>
                <a:arcTo wR="10800" hR="10800" stAng="-3764591" swAng="377998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, doe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ons from one of the MARS datasets were tracked through an example decay channel and plotted by (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Coloured green if they got the end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Red otherwise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not entirely deterministic due to pion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uon decays and finit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doe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90520" y="2276640"/>
            <a:ext cx="67611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does it?  Rough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90520" y="2276640"/>
            <a:ext cx="6761160" cy="3971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V="1">
            <a:off x="3381480" y="3807000"/>
            <a:ext cx="2125440" cy="2125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81480" y="4653000"/>
            <a:ext cx="4551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, does it?  Rough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e choo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 baseline="30000">
                <a:solidFill>
                  <a:srgbClr val="a50021"/>
                </a:solidFill>
                <a:latin typeface="Arial"/>
              </a:rPr>
              <a:t>max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 = 45°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Arial"/>
              </a:rPr>
              <a:t>T</a:t>
            </a:r>
            <a:r>
              <a:rPr b="0" lang="en-GB" sz="2800" spc="-1" strike="noStrike" baseline="30000">
                <a:solidFill>
                  <a:srgbClr val="a50021"/>
                </a:solidFill>
                <a:latin typeface="Arial"/>
              </a:rPr>
              <a:t>max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 = 250 MeV/c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we can re-draw the pion yield graphs for this subset of the 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ut Yield of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−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555624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ised to unit beam power (p.G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7080" y="1484280"/>
          <a:ext cx="7629840" cy="38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484280"/>
                    <a:ext cx="762984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348000" y="3716280"/>
            <a:ext cx="3600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energy yield now appears a factor of 2 over low energy, but how much of that kink is re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4000" y="2435400"/>
            <a:ext cx="619200" cy="178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22320" y="2171880"/>
            <a:ext cx="91800" cy="465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698560" y="2482920"/>
            <a:ext cx="115560" cy="398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169720" y="2470320"/>
            <a:ext cx="646200" cy="8874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179440" y="2133720"/>
            <a:ext cx="663480" cy="577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and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of prot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otal pion yield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imple cut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robability map “cuts” from tracking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of the 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of rod rad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 on effect of rod length and tilt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757080" y="1357200"/>
          <a:ext cx="762984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357200"/>
                    <a:ext cx="762984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ut Yield of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−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556240"/>
            <a:ext cx="85075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sed to unit rod 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1779480"/>
            <a:ext cx="3745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ut seems to have moved this optimum down slightly, to 8-1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racking through Two Design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on-cooling front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Uses bunch compression chicane after decay channel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n an 88MHz muon linac to 400±100MeV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 phase-rot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Continues the linear solenoid channel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31.4MHz cavities reduce the energy spread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Goal is 180±23MeV for cooling ring injec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Fate Plot for Chicane/Linac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8640" y="1628640"/>
            <a:ext cx="7686720" cy="441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5291280" y="1290600"/>
          <a:ext cx="3384360" cy="2425680"/>
        </p:xfrm>
        <a:graphic>
          <a:graphicData uri="http://schemas.openxmlformats.org/drawingml/2006/table">
            <a:tbl>
              <a:tblPr/>
              <a:tblGrid>
                <a:gridCol w="1353960"/>
                <a:gridCol w="2030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t backw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 rod ag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 inside first soleno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/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 in decay chann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 in chic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 in lin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tted 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879480" y="1995480"/>
            <a:ext cx="37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ion distribution used here is from a 2.2GeV proton be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Fate Plot for Phase Rotat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38360" y="1677960"/>
            <a:ext cx="7667280" cy="434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5291280" y="1268280"/>
          <a:ext cx="3384360" cy="2122560"/>
        </p:xfrm>
        <a:graphic>
          <a:graphicData uri="http://schemas.openxmlformats.org/drawingml/2006/table">
            <a:tbl>
              <a:tblPr/>
              <a:tblGrid>
                <a:gridCol w="1353960"/>
                <a:gridCol w="2030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t backw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 rod ag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 inside first soleno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/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 in decay chann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 in phase rot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tted 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robability Grid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in the plots into 30MeV/c squares and work out the transmission probability within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8628" t="36832" r="40504" b="0"/>
          <a:stretch/>
        </p:blipFill>
        <p:spPr>
          <a:xfrm>
            <a:off x="527040" y="3397320"/>
            <a:ext cx="3817800" cy="2840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rcRect l="9094" t="38290" r="41162" b="0"/>
          <a:stretch/>
        </p:blipFill>
        <p:spPr>
          <a:xfrm>
            <a:off x="4873680" y="3424320"/>
            <a:ext cx="3743280" cy="2786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459800" y="347328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cane/Lin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03920" y="3475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ase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robability Grid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in the plots into 30MeV/c squares and work out the transmission probability within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then be used to estimate the transmission quickly from MARS output datasets at various proton e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hicane/Linac Transmiss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57080" y="1481040"/>
          <a:ext cx="7629840" cy="38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481040"/>
                    <a:ext cx="762984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606760" y="3940200"/>
            <a:ext cx="434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dependency is much flatter now we are selecting pions by energy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555624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ised to unit beam power (p.G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hicane/Linac Transmiss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52400" y="1309680"/>
            <a:ext cx="7639200" cy="4238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556240"/>
            <a:ext cx="85075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sed to unit rod 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06760" y="4149720"/>
            <a:ext cx="419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-10GeV now looks good enough if we are limited by target h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hase Rotator Transmiss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5556240"/>
            <a:ext cx="8229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ised to unit beam power (p.G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57080" y="1481040"/>
          <a:ext cx="7629840" cy="38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481040"/>
                    <a:ext cx="762984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hase Rotator Transmiss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5556240"/>
            <a:ext cx="85075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sed to unit rod 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52400" y="1309680"/>
            <a:ext cx="76392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172360" y="1962000"/>
            <a:ext cx="287280" cy="576360"/>
          </a:xfrm>
          <a:prstGeom prst="ellipse">
            <a:avLst/>
          </a:prstGeom>
          <a:gradFill rotWithShape="0">
            <a:gsLst>
              <a:gs pos="0">
                <a:srgbClr val="afafaf"/>
              </a:gs>
              <a:gs pos="50000">
                <a:srgbClr val="ffffff"/>
              </a:gs>
              <a:gs pos="100000">
                <a:srgbClr val="afaf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asic Setup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35592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ons counted at rod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field ignored within rod (for 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 beam assumed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Circular parabolic distribution, rod radiu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d is not ti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7080" y="1962000"/>
            <a:ext cx="4680000" cy="57636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50000">
                <a:srgbClr val="ffffff"/>
              </a:gs>
              <a:gs pos="100000">
                <a:srgbClr val="afaf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1962000"/>
            <a:ext cx="287640" cy="576360"/>
          </a:xfrm>
          <a:prstGeom prst="ellipse">
            <a:avLst/>
          </a:prstGeom>
          <a:gradFill rotWithShape="0">
            <a:gsLst>
              <a:gs pos="0">
                <a:srgbClr val="afafa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7080" y="196200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37080" y="253836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7080" y="28987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844360" y="22510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987640" y="1961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844360" y="1962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637080" y="2538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317080" y="2538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59840" y="29908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49640" y="19112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5440" y="20685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id Tanta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1911240"/>
            <a:ext cx="1511280" cy="647640"/>
          </a:xfrm>
          <a:prstGeom prst="rightArrow">
            <a:avLst>
              <a:gd name="adj1" fmla="val 50000"/>
              <a:gd name="adj2" fmla="val 58338"/>
            </a:avLst>
          </a:prstGeom>
          <a:gradFill rotWithShape="0">
            <a:gsLst>
              <a:gs pos="0">
                <a:srgbClr val="ff9f9f"/>
              </a:gs>
              <a:gs pos="100000">
                <a:srgbClr val="75494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16891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7898600">
            <a:off x="6155280" y="11977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gradFill rotWithShape="0">
            <a:gsLst>
              <a:gs pos="0">
                <a:srgbClr val="a9fea0"/>
              </a:gs>
              <a:gs pos="100000">
                <a:srgbClr val="4d7549"/>
              </a:gs>
            </a:gsLst>
            <a:lin ang="145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7898600">
            <a:off x="6876000" y="11977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gradFill rotWithShape="0">
            <a:gsLst>
              <a:gs pos="0">
                <a:srgbClr val="a9fea0"/>
              </a:gs>
              <a:gs pos="100000">
                <a:srgbClr val="4d7549"/>
              </a:gs>
            </a:gsLst>
            <a:lin ang="145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7898600">
            <a:off x="7596720" y="11977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gradFill rotWithShape="0">
            <a:gsLst>
              <a:gs pos="0">
                <a:srgbClr val="a9fea0"/>
              </a:gs>
              <a:gs pos="100000">
                <a:srgbClr val="4d7549"/>
              </a:gs>
            </a:gsLst>
            <a:lin ang="145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6000" y="549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ummary 2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30GeV may be excellent in terms of raw pion yields, the pions produced are increasingly lost 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Large transverse momenta (above 10-20GeV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 high energy spread, outside the acceptance of bunching systems (above 6-10GeV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 suggests the optimal energy is around 6-10GeV, providing a 50% yield improvement over 2.2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64200" y="5759280"/>
            <a:ext cx="210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 certain provisos on the accuracy of MARS’s pion model over the transition re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Rod with a Hole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hole still leaves 1-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rod available for pion production but could decrease the path length for re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0" y="3284640"/>
            <a:ext cx="2880000" cy="2879640"/>
          </a:xfrm>
          <a:prstGeom prst="ellipse">
            <a:avLst/>
          </a:prstGeom>
          <a:gradFill rotWithShape="0">
            <a:gsLst>
              <a:gs pos="0">
                <a:srgbClr val="afafaf"/>
              </a:gs>
              <a:gs pos="50000">
                <a:srgbClr val="ffffff"/>
              </a:gs>
              <a:gs pos="100000">
                <a:srgbClr val="afaf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95640" y="4148280"/>
            <a:ext cx="1152720" cy="115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5084640"/>
            <a:ext cx="431640" cy="432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780000" y="3789360"/>
            <a:ext cx="2952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2627280" y="4652640"/>
            <a:ext cx="1152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93760" y="35002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 cross-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643280" y="4149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572000" y="328428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57440" y="3500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9200" y="4221000"/>
            <a:ext cx="33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Rod with a Hole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hole still leaves 1-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rod available for pion production but could decrease the path length for re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a uniform beam instead of the parabolic distribution, so the per-area efficiency could be calculated eas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= 1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mm, 4mm, 6mm, 8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Yield Decreases with Hole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39680" y="1433520"/>
            <a:ext cx="7066080" cy="4759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652760" y="1916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21080" y="30672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808200" y="1341360"/>
          <a:ext cx="7529400" cy="495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1341360"/>
                    <a:ext cx="752940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Yield per Rod Area with Hole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67080" y="18399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35400" y="29908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92160" y="472428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ctually decreases at the largest hole siz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Rod with a Hole Summary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 boring a hole is not helping, b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latively flat area-efficiencies suggest reabsorption is not a major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o what if we increase rod radius?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iciency decrease for a hollow rod suggests that for thin (&lt;2mm) target cross-sectional shapes, multiple scattering of protons in the tantalum is notic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Variation of Rod Radiu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hange the incoming beam size with the rod size and observe the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Variation of Rod Radiu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hange the incoming beam size with the rod size and observe the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not physical for the smallest rods as a beta focus could not be main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55640" y="3933720"/>
          <a:ext cx="7777080" cy="2192400"/>
        </p:xfrm>
        <a:graphic>
          <a:graphicData uri="http://schemas.openxmlformats.org/drawingml/2006/table">
            <a:tbl>
              <a:tblPr/>
              <a:tblGrid>
                <a:gridCol w="1944720"/>
                <a:gridCol w="1944720"/>
                <a:gridCol w="1942920"/>
                <a:gridCol w="194472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ttanc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radi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g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mm.mrad extracted from proton mach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m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 m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Variation of Rod Radiu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hange the incoming beam size with the rod size and observe the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rger rods, the increase in transverse emittance may be a problem down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beam-size adds in quadrature to the Larmor radi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284720" y="4508640"/>
                <a:ext cx="360036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eB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otal Yield with Rod Radiu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792000" y="1098720"/>
          <a:ext cx="7560000" cy="528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1098720"/>
                    <a:ext cx="756000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ossible Proton Energie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484360" y="1413000"/>
          <a:ext cx="4321080" cy="4876560"/>
        </p:xfrm>
        <a:graphic>
          <a:graphicData uri="http://schemas.openxmlformats.org/drawingml/2006/table">
            <a:tbl>
              <a:tblPr/>
              <a:tblGrid>
                <a:gridCol w="3616560"/>
                <a:gridCol w="704520"/>
              </a:tblGrid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n Dri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 green-field 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/ISIS 5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/ISIS 1MW, FNAL lin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/IS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/PS, JPARC ini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ARC f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NAL injector/Nu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ut Yield with Rod Radiu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20720" y="1125360"/>
          <a:ext cx="7704000" cy="538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125360"/>
                    <a:ext cx="770400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2870280" y="1360440"/>
            <a:ext cx="4438440" cy="4229280"/>
          </a:xfrm>
          <a:custGeom>
            <a:avLst/>
            <a:gdLst/>
            <a:ahLst/>
            <a:rect l="l" t="t" r="r" b="b"/>
            <a:pathLst>
              <a:path w="2796" h="2664">
                <a:moveTo>
                  <a:pt x="0" y="0"/>
                </a:moveTo>
                <a:lnTo>
                  <a:pt x="74" y="563"/>
                </a:lnTo>
                <a:lnTo>
                  <a:pt x="443" y="1666"/>
                </a:lnTo>
                <a:lnTo>
                  <a:pt x="950" y="2210"/>
                </a:lnTo>
                <a:lnTo>
                  <a:pt x="1734" y="2528"/>
                </a:lnTo>
                <a:lnTo>
                  <a:pt x="2796" y="26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84920" y="1360440"/>
            <a:ext cx="225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od heating per unit volume and hence shock amplitude decreases as 1/r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7120" y="2859120"/>
            <a:ext cx="31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scattering decreases yield at r = 5mm and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11840" y="3141720"/>
            <a:ext cx="22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-off due to reabsorption is fairly shallow with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Note on Rod Tilt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racking optimisations so far have set the rod tilt to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time a non-zero tilt appeared to give better yields was when measuring immediately after the first solen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: tilting the rod gains a few pions at the expense of an increased horizontal emittance (equivalent to a larger r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Note on Rod Length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ing the rod length w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Double the heat to dissipate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lso double the pions emitted per prot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ncrease the longitudinal emittance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ons already have a timespread of RMS 1ns coming from the proton b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tra length of rod would add to this the length divided by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results indicate 6-10GeV is an optimal proton driver energy for current front-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If we can accept larger energy spreads, can go to a higher energy and get more pions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r rod radius is a shallow tradeoff in pion yield but would make solid targets much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ting the rod could be a red her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Especially if reabsorption is not as bad as we think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making the rod coaxial and longer i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mulating with the LAQGSM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ing of MARS15 results against a GEANT4-based system (K. Wala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ing optimisation of front-ends based on higher proton energies (sensitivit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ng scenarios with longer r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J. Back (Warwick) also available to look at radioprotection issues and adding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-fields using MAR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otal Yield of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−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52320" y="1481040"/>
          <a:ext cx="7839360" cy="38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81040"/>
                    <a:ext cx="783936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55624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ised to unit beam power (p.G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3933720"/>
            <a:ext cx="5400720" cy="719280"/>
          </a:xfrm>
          <a:prstGeom prst="leftRightArrow">
            <a:avLst>
              <a:gd name="adj1" fmla="val 49778"/>
              <a:gd name="adj2" fmla="val 95386"/>
            </a:avLst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B: Logarithmic sca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28960" y="3079800"/>
            <a:ext cx="4249440" cy="0"/>
          </a:xfrm>
          <a:prstGeom prst="line">
            <a:avLst/>
          </a:prstGeom>
          <a:ln w="1908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95800" y="2027160"/>
            <a:ext cx="2104920" cy="0"/>
          </a:xfrm>
          <a:prstGeom prst="line">
            <a:avLst/>
          </a:prstGeom>
          <a:ln w="1908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796000" y="2031840"/>
            <a:ext cx="0" cy="10368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56120" y="211932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66% more </a:t>
            </a:r>
            <a:r>
              <a:rPr b="0" lang="en-US" sz="1800" spc="-1" strike="noStrike">
                <a:solidFill>
                  <a:srgbClr val="6600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at 30GeV than 2.2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31840" y="2944800"/>
            <a:ext cx="42069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14880" y="1938240"/>
            <a:ext cx="20476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98900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7% more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−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t 30GeV than 2.2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796000" y="1945800"/>
            <a:ext cx="0" cy="9781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Energy Deposition in Rod (heat)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d for 5MW total beam power; the rest is kinetic energy of seco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357200" y="1413000"/>
          <a:ext cx="6429600" cy="389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1413000"/>
                    <a:ext cx="642960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otal Yield of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−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52320" y="1481040"/>
          <a:ext cx="7839360" cy="38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81040"/>
                    <a:ext cx="783936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5556240"/>
            <a:ext cx="85075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ised to unit rod heat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.GeV = 1.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24560" y="1779480"/>
            <a:ext cx="3692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purely target point of view, ‘optimum’ moves to 10-15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Angular Distribut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95160" y="1600200"/>
            <a:ext cx="3560760" cy="218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86280" y="1600200"/>
            <a:ext cx="3560760" cy="2185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93720" y="3938760"/>
            <a:ext cx="3564000" cy="2187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884840" y="3938760"/>
            <a:ext cx="3564000" cy="2187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97280" y="1484280"/>
            <a:ext cx="95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85240" y="1484280"/>
            <a:ext cx="76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31120" y="3838680"/>
            <a:ext cx="891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58880" y="3838680"/>
            <a:ext cx="1017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79520" y="1916280"/>
            <a:ext cx="0" cy="158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02320" y="1919160"/>
            <a:ext cx="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4254480"/>
            <a:ext cx="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01840" y="4259160"/>
            <a:ext cx="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48880" y="186516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ack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−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51040" y="213192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47320" y="443700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1840" y="446868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Angular Distribut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77800" y="1197000"/>
          <a:ext cx="6405840" cy="525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7800" y="1197000"/>
                    <a:ext cx="640584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348000" y="2421000"/>
            <a:ext cx="1295280" cy="504720"/>
          </a:xfrm>
          <a:prstGeom prst="leftArrow">
            <a:avLst>
              <a:gd name="adj1" fmla="val 34593"/>
              <a:gd name="adj2" fmla="val 52907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1647720"/>
            <a:ext cx="18716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uses the strange kink in the graph between 3GeV and 5GeV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0:45:46Z</dcterms:created>
  <dc:creator>Stephen Brooks</dc:creator>
  <dc:description/>
  <dc:language>en-US</dc:language>
  <cp:lastModifiedBy>Stephen Brooks</cp:lastModifiedBy>
  <dcterms:modified xsi:type="dcterms:W3CDTF">2005-03-15T17:11:08Z</dcterms:modified>
  <cp:revision>37</cp:revision>
  <dc:subject/>
  <dc:title>Slide 1</dc:title>
</cp:coreProperties>
</file>